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745-597F-47C9-8FAC-86F7A3D3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FAF-6E56-4178-9326-03F10703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3D7-3E94-438A-AE6C-973DD7BD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31B-5B46-4EEB-AD65-6E53F63A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09C2-858F-4EE4-8D13-C4E924A8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BC58-1C39-4D89-B5D3-8262C5D3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347-5633-406C-830E-263EFC66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473C-47C3-4E87-B8C1-EC366426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30E0-ED88-4006-8C13-013240E9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9C99-9625-4CC7-A0E2-0FABBBDA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04F6-E002-46D7-B74F-76A1F7A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91B-1874-4D65-AC8B-6DA954F7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0A81-86C8-4926-941B-94AEB787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9420-617B-4315-9121-1E0090E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DF70-5DCB-4B7E-BC7E-2E3A2037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43FA-86D9-4288-BE8F-43C8DDE7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AE10-2A7C-49B6-AF98-058779E5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C68-BCB8-4C18-9C81-13352E4A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BE0-E35C-4506-B88B-B3CA4A5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685-1677-4A9C-96C7-55891BF3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B70-3EE2-4898-B375-0F471760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279-B192-4339-A7F6-7EF0775E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3B0-BF1C-4D9B-BE5A-ADF2A1F0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413-48AA-4A6F-8572-7B184683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FAB8-5A87-460B-A132-A192C1F2C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54EB-0EBD-403E-B966-EDCD92AD8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indows Driver Verification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arivi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S E6998 – Formal H/S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Microsoft Verification Tool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hopefully now clear that writing drivers can be difficult, let alone writing correct bug-free driv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ication tools to the Rescu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Driver Verif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ver Verif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following slides are ta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om “Static Analysis and Verification of Drivers” WINHEC 2006 by Donn Terry and Vlad Levin of Microsoft.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perty of Microsoft. Used explicitly for Academic purposes…. Please don’t sue 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825840" y="5979960"/>
            <a:ext cx="72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Located @ http://www.microsoft.com/whdc/devtools/tools/SDV.m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8cc"/>
                </a:solidFill>
                <a:latin typeface="Arial Black"/>
              </a:rPr>
              <a:t>Static Analysis – How Does It Work?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9880" indent="-389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ol builds an abstract model of a driver and exhaustively inspects execution along all path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26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stract model is simpler:  it’s reduced..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26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so much simpler that it’s possible to have it inspected (“simulated”) exhaustiv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-approximation of the dri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26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rol part remains the sam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66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aths are preserved and treated equal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26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state is over-approxim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66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rgument x is not constrained, assume any valu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66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x&gt;0) guards the point of interest, keep track of boolean (x&gt;0)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not integer value of x: boolean is simpler than integ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5280" indent="-217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(x &gt; 0) { IoCompleteRequest (Irp)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4971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Static Analysis</a:t>
            </a:r>
            <a:br>
              <a:rPr sz="3200"/>
            </a:br>
            <a:r>
              <a:rPr b="0" lang="en-US" sz="2400" spc="-1" strike="noStrike">
                <a:solidFill>
                  <a:srgbClr val="99ccff"/>
                </a:solidFill>
                <a:latin typeface="Arial Black"/>
              </a:rPr>
              <a:t>Not a silver bullet</a:t>
            </a:r>
            <a:br>
              <a:rPr sz="2400"/>
            </a:b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899720"/>
            <a:ext cx="83883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place functional t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s violations of a given set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defined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al limi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71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oesn’t know about every possible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71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s are based on source code abstra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u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33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results in both false positives and false nega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not a silver bulle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a useful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4971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Our Static Tools For Driver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t For Drivers (PF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htweight and fast (runs in minu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use early in development – start ear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n any code that comp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 to a procedure sco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on any code, C and C+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s many local viol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 Driver Verifier (SD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ly deep analysis (runs in hou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useful in the later stages of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complete dri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 over the whole dri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 to WDM and to C (more plann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s deep bu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68280" y="2070000"/>
            <a:ext cx="6704280" cy="4503960"/>
          </a:xfrm>
          <a:prstGeom prst="roundRect">
            <a:avLst>
              <a:gd name="adj" fmla="val 5407"/>
            </a:avLst>
          </a:prstGeom>
          <a:solidFill>
            <a:srgbClr val="0000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problem has been detected and Windows has been shut down to prev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amage to your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omputer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RIVER_IRQL_NOT_LESS_OR_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f this is the first time you've seen this Stop error scre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art your computer. If this screen appears again,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hes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heck to make sure any new hardware or software is properly inst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f this is a new installation, ask your hardware or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anufacturer for any Windows updates you might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f problems continue, disable or remove any newly installed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r software. Disable BIOS memory options such as caching or shad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f you need to use Safe Mode to remove or disable components,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your computer, press F8 to select Advanced Startup Options, and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lect Safe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echnical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*** STOP: 0x00000001 (0x0000000,00000002,0x00000000,0x00000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85560"/>
            <a:ext cx="776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Driver Tools Relationship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133720"/>
            <a:ext cx="6629400" cy="0"/>
          </a:xfrm>
          <a:prstGeom prst="line">
            <a:avLst/>
          </a:prstGeom>
          <a:ln w="1270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199880" y="2133720"/>
            <a:ext cx="19080" cy="4238640"/>
          </a:xfrm>
          <a:prstGeom prst="line">
            <a:avLst/>
          </a:prstGeom>
          <a:ln w="1270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160020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oducibility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38160" y="3800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2438280"/>
            <a:ext cx="1828800" cy="4114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e2e2fe"/>
              </a:gs>
              <a:gs pos="100000">
                <a:srgbClr val="ccccff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33840" y="3514680"/>
            <a:ext cx="5029200" cy="258120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50000">
                <a:srgbClr val="d3acfe"/>
              </a:gs>
              <a:gs pos="100000">
                <a:srgbClr val="af67ff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04960" y="2514600"/>
            <a:ext cx="6095880" cy="15526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50000">
                <a:srgbClr val="9090e2"/>
              </a:gs>
              <a:gs pos="100000">
                <a:srgbClr val="3333cc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ast for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5840" y="990720"/>
            <a:ext cx="1252440" cy="1158840"/>
          </a:xfrm>
          <a:custGeom>
            <a:avLst/>
            <a:gdLst/>
            <a:ahLst/>
            <a:rect l="l" t="t" r="r" b="b"/>
            <a:pathLst>
              <a:path w="506" h="467">
                <a:moveTo>
                  <a:pt x="0" y="467"/>
                </a:moveTo>
                <a:lnTo>
                  <a:pt x="506" y="0"/>
                </a:lnTo>
              </a:path>
            </a:pathLst>
          </a:custGeom>
          <a:noFill/>
          <a:ln w="10152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066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066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019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SDV:  Quality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5639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hensive path co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s all possible paths in a dr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s cross procedur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s a driver together with libra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s deep defects that are hard to repr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V is not perf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one driver (not the entire driver sta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DI implementation code is abstracted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ht run out of time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d of copied slid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riously, don’t su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c"/>
                </a:solidFill>
                <a:latin typeface="Arial Black"/>
              </a:rPr>
              <a:t>Operating Systems 101 - Modes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-day CPUs provide support for operating in different mod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de of operation determines what machine instructions and areas of memory can and cannot be access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main mod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: regular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(Protected): 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 Driver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c"/>
                </a:solidFill>
                <a:latin typeface="Arial Black"/>
              </a:rPr>
              <a:t>Operating Systems 101 - Paging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ing and Virtual Memor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size of available memory (beyond physical RAM) to programs by storing parts of the memory space on the H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is broken up into chunks called pag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ll of a program’s pages will necessarily be in memory when the program is running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 to Operating System (Kernel) + Hardware (MMU) to implement and hand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Presentation Outlin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s Dri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soft Verification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s 10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Tal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V’s “Fail_driver1”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ght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OS 101 – Memory Mapped I/O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pped I/O: hardware is mapped to memory address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Parallel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T1: mapped to 0x3bc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x3b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ing to the destination will actually set the pins on the port high or l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will provide input from peripherals driving the pin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original PCs (including Win9x), user-mode software could access the memory-locations directly, thus controlling the P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T-based versions of  Windows (with protected memory) user-mode programs cannot access the memory values directl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way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Introducing PortTalk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Open-source Windows Driver for accessing the parallel por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by Craig Peacock (thank you!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s user mode programs (through the PortTalk driver) to control the P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51880" y="594360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eyondlogic.org/porttalk/porttal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c"/>
                </a:solidFill>
                <a:latin typeface="Arial Black"/>
              </a:rPr>
              <a:t>Case Study – Verifying PortTalk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as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4 Warn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always appears, stating it is not actually a war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ond was a false-posit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hird and fourth were legitimate bug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DV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SDV rules applied.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PREfast – False Positiv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ly every driver has the same initial routine in the DriverEntry func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NTSTATUS DriverEntry(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IN PDRIVER_OBJECT DriverObject,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IN PUNICODE_STRING RegistryPat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{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PDEVICE_OBJECT deviceObject;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NTSTATUS status;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WCHAR NameBuffer[] = L"\\Device\\PortTalk";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WCHAR DOSNameBuffer[] = L"\\DosDevices\\PortTalk";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UNICODE_STRING uniNameString, uniDOSString;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status = IoCreateDevice(DriverObject,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0,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&amp;uniNameString,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FILE_DEVICE_UNKNOWN,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0,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FALSE,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       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Bitstream Vera Sans Mono"/>
              </a:rPr>
              <a:t>&amp;deviceObject</a:t>
            </a:r>
            <a:r>
              <a:rPr b="1" lang="en-US" sz="800" spc="-1" strike="noStrike">
                <a:solidFill>
                  <a:srgbClr val="000000"/>
                </a:solidFill>
                <a:latin typeface="Bitstream Vera Sans Mono"/>
              </a:rPr>
              <a:t>);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ce in IoCreateDevice we pass a pointer to deviceObject. This is so that IoCreateDevice can put the object the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ast warned it might be a memory lea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ther situations, it is a legitimate concer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PREfast – Pointer Bug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6858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the PortTalk code are some Debug statemen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dPrint( ("PORTTALK: Offset = %d, Value = %d\n",Offset,Value)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offset and value are pointer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ast warned that one must not use %d for pointers, since on a 64-bit machine pointers are 64-bits, but %d is explicitly for 32-bit integ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ast even gave the correct solution of using %X (specifically for pointers) instea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SDV  - failed_driver1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V comes with a few example drivers that are inccorect, including failed_driver1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contains 6 common mistakes that SDV checks fo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Spin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pProcessing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ql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Driver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llExFreeP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SDV - CancelSpinLock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4038120"/>
            <a:ext cx="586764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SpinLock rule requi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the driver calls IoAcquireCancelSpinLock before calling IoReleaseCanc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the driver calls IoReleaseCancelSpinLock before any subsequent calls to IoAcquireCancelSpinLo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river must not hold any spin locks when the dispatch routine or cancel routine end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95280" y="1066680"/>
          <a:ext cx="5029200" cy="28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066680"/>
                    <a:ext cx="5029200" cy="28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SDV  - NullExFreePool 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4190760"/>
            <a:ext cx="55627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llExFreePool prohibits a driver from calling ExFreePool on a NULL poin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990720"/>
          <a:ext cx="5715000" cy="32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90720"/>
                    <a:ext cx="5715000" cy="32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SDV  on Custom Driver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part of project, I am also writing another driver, and verifying it along the wa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ast has been (usually) quite helpful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DV…. has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DriverEntry Bug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219320"/>
          <a:ext cx="7848720" cy="508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848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Microsoft Windows Driver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5867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EXTREMELY confus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different ways to achieve the same thing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antly chan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different Libraries have been used over tim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Device Driver (VxD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 3.x, 95, 98, and 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Driver Mode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Driver Model (WD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ed in Windows 98 and 2000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t be either a bus, function, or filter driv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t support PnP, Power Management, and WMI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Driver Foundation (WDF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 2000, XP, Server 2003, and Vis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-Mode Driver Framework (KMDF)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 2000, XP, Server 2003, and Vis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d to create drivers that conform to WD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ifies common complicated tasks, like PnP and Power 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-mode Driver Framework (UMDF)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 XP and Vis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d in cases where running within the kernel not necessary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DriverEntry Bugs Explained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vious code segment violated at least three rules (all intentionally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Str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Spin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llExFreeP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SDV, howev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Strings does not app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SpinLock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llExFreePool: f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Origin of Previous Tes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ly, I was trying to debug another portion of the code for safe strings, but SDV was reporting the SafeStrings rule did not apply (meaning no unsafe string functions were being use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len is an unsafe string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ring SDV wasn’t analyzing the specific function within the code, I moved the test into DriverEnt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it still wasn’t applying, I decided to include a rule taken directly from the failed example driver... But it passed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ring SDV still wasn’t actually scanning the code, I added yet another failed example code chunk… it finally failed, meaning SDV was actually processing the cod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oes of Driver Developmen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1828800"/>
          <a:ext cx="7543800" cy="48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828800"/>
                    <a:ext cx="754380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143000" y="11430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machine after falling victim to a paging bug which neither PREfast nor SDV f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8210520" y="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onclusion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ast is grea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quickly finds many common mistak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reports false positives on some very common cas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ers (sometimes unjustified) peace of mind while writing driver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V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dly very good at finding extremely complex bugs with extremely difficult path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ed difficulty finding some very simple bug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ht be buggy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Basic Driver Model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6553080" cy="5286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5000" y="6491160"/>
            <a:ext cx="75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WDK – “Overview of System Components for Driver Writ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8cc"/>
                </a:solidFill>
                <a:latin typeface="Arial Black"/>
              </a:rPr>
              <a:t>Overview of Windows Components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173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8640" y="63612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WDK: “Overview of Windows Compon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DM Driver Type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9000" y="137124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ter Driver: filters requests between other driver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 Drivers: control individual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 Drivers: Services a bus controller, adapter, or bridge (USB, PCI, et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3352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4440" y="6019920"/>
            <a:ext cx="45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WDK: “Types of WDM Driv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8cc"/>
                </a:solidFill>
                <a:latin typeface="Arial Black"/>
              </a:rPr>
              <a:t>WDM Types Example – USB Joystick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33720" y="990720"/>
            <a:ext cx="4057560" cy="556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20" y="649116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WDK: “WDM Driver Layers: An Exam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I/O Request Packets (IRP)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365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rs Communicate with IRP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Ps are passed through the Driver stack, as multiple drivers process and pass on the driv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y: TCP/IP, where each Router is a driv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45000" y="1143000"/>
            <a:ext cx="4599000" cy="4876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97800" y="601992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WDK: “Example I/O Request – An Overvie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IRQ Levels (IRQL)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driver routine execute at different levels (from lowest to highest prior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IVE_LEVEL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C_LEVE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ATCH_LEVE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Q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QL indicates which interrupts are turned off, and therefore which functions can be safely call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outine called @ the DIRQL (highest priority) will have all interrupts turned off, including page fault interrupt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 it cannot access any memory that might be paged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24000" y="609588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WDK: “Managing Hardware Priorit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21:09:40Z</dcterms:created>
  <dc:creator>David Lariviere</dc:creator>
  <dc:description/>
  <dc:language>en-US</dc:language>
  <cp:lastModifiedBy>David Lariviere</cp:lastModifiedBy>
  <dcterms:modified xsi:type="dcterms:W3CDTF">2006-12-22T03:42:23Z</dcterms:modified>
  <cp:revision>20</cp:revision>
  <dc:subject/>
  <dc:title>Windows Driver Verification</dc:title>
</cp:coreProperties>
</file>